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6142-F720-46B9-91E4-D72738C52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DDDD-A840-4048-990E-814FD203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B431-DAC7-4576-8641-554E0C477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8BF0-7905-4A45-BA6C-3F56C9B8F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DA25-CDDF-4BDD-8B60-B06D15DA4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D8C9-1181-4726-A813-F5FC9FB7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07C9-CB4D-491E-B860-608D396C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F392-9B18-4959-A7D6-BA519113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FB57-37D5-48CE-9454-29379913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54A6-55CF-4F02-A297-4DF05DE1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4F44-C76E-4239-B707-A46B1CC4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35C7-3075-4726-8463-189FB813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03CD-9049-42A8-B1BB-F9F84A26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74EB-E52A-4CE0-93D4-E77C87AA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704E-42BA-4842-9256-85A19518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88E3-26E1-432C-8A29-FA4CC603D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B1AA-2FA3-43FD-9BE7-EAAAEB14B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5E65-8140-4895-AB62-01B613F7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2F4E-9EDC-4315-A0B6-BEB4AFAA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2ED4-42C9-4F66-8816-E172F0E1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BE68-15CD-40B1-A409-ABE56B32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6FE9-D7F5-4191-8886-73FF6BE0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4BCD-2083-4C6D-BECA-1FFBE01A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17F3-C387-44FD-9996-F54227E5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77B5-97EA-4562-999A-2283F28A3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5EB7-4940-4E1E-8943-ABCE69906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myddnetwork.com/clothing-shoes-accessories/wp-content/uploads/fall-winter-fashion-latest-trends-checked-clothes-and-chic-skirts.jpg&amp;imgrefurl=http://efabric.biz/blog/%3Fp%3D97&amp;usg=__zwqu-RFml7vt4Sd1jebcczKH5Wc=&amp;h=345&amp;w=440&amp;sz=52&amp;hl=en&amp;start=20&amp;zoom=1&amp;itbs=1&amp;tbnid=n46-O0jXNQ1dbM:&amp;tbnh=100&amp;tbnw=127&amp;prev=/images%3Fq%3Ddesigner%2Bclothing%26hl%3Den%26gbv%3D2%26tbs%3Disch:1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google.co.uk/imgres?imgurl=http://www.ilacadworldretail.com/BO/data/logos_cadenas/logo_tesco_ELH.jpg&amp;imgrefurl=http://www.ilacadworldretail.com/&amp;usg=__pcBTj0IQIqSVubC-vjCSGCxuN_o=&amp;h=395&amp;w=800&amp;sz=30&amp;hl=en&amp;start=1&amp;zoom=1&amp;itbs=1&amp;tbnid=r2i1jQZVoui_WM:&amp;tbnh=71&amp;tbnw=143&amp;prev=/images%3Fq%3Dtesco%26hl%3Den%26gbv%3D2%26tbs%3Disch:1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google.co.uk/imgres?imgurl=http://www.12news.us/wp-content/uploads/2010/09/Grandparents-Day-2010.jpg&amp;imgrefurl=http://www.12news.us/grandparents-day-2010.html&amp;usg=__6YDzuO7vn1At8ncOZwtfxJSugK8=&amp;h=313&amp;w=400&amp;sz=47&amp;hl=en&amp;start=1&amp;zoom=1&amp;itbs=1&amp;tbnid=ZknjEGHqso5XPM:&amp;tbnh=97&amp;tbnw=124&amp;prev=/images%3Fq%3Dgrandparents%2Bday%26hl%3Den%26gbv%3D2%26tbs%3Disch:1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www.google.co.uk/imgres?imgurl=http://www.grayandsons.net/wp-content/uploads/2010/06/engagement-ring.jpg&amp;imgrefurl=http://www.grayandsons.net/diamond-engagement-rings/&amp;usg=__9vn-Oga1M2HUjdz8JuMXtXVhIjs=&amp;h=300&amp;w=300&amp;sz=25&amp;hl=en&amp;start=2&amp;zoom=1&amp;itbs=1&amp;tbnid=WgkTWwTsHh5SoM:&amp;tbnh=116&amp;tbnw=116&amp;prev=/images%3Fq%3Ddiamond%2Bengagement%2Brings%26hl%3Den%26gbv%3D2%26tbs%3Disch:1" TargetMode="External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amiright.com/album-covers/images/album-Various-Artists-Pretty-Woman-Soundtrack.jpg&amp;imgrefurl=http://www.amiright.com/album-covers/pretty-woman-soundtrack-parodies/&amp;usg=__X7PadWymbFmtVZgWEz-uZAQibWw=&amp;h=300&amp;w=301&amp;sz=22&amp;hl=en&amp;start=2&amp;zoom=1&amp;itbs=1&amp;tbnid=56Hm_tt5H-bEwM:&amp;tbnh=116&amp;tbnw=116&amp;prev=/images%3Fq%3Dpretty%2Bwoman%26hl%3Den%26gbv%3D2%26tbs%3Disch:1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google.co.uk/imgres?imgurl=http://www.politablog.com/wp-content/uploads/communism_party.jpg&amp;imgrefurl=http://www.politablog.com/miscellaneous/on-revolution/&amp;usg=__yRiAoFmB-Fww3rWuLUuq8ZFWeXc=&amp;h=600&amp;w=800&amp;sz=270&amp;hl=en&amp;start=171&amp;zoom=1&amp;itbs=1&amp;tbnid=jXzHXyJec58a4M:&amp;tbnh=107&amp;tbnw=143&amp;prev=/images%3Fq%3Dcommunism%26start%3D160%26hl%3Den%26sa%3DN%26gbv%3D2%26ndsp%3D20%26tbs%3Disch:1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theflagman.co.uk/images/P3070110.JPG&amp;imgrefurl=http://www.sodahead.com/living/do-you-display-a-flag-on-or-near-your-home/question-89428/&amp;usg=__Wcq7QO2NaQ_DVjif5jc0hoRBoB4=&amp;h=480&amp;w=640&amp;sz=141&amp;hl=en&amp;start=38&amp;zoom=1&amp;itbs=1&amp;tbnid=lBYGc8GQ_EyuuM:&amp;tbnh=103&amp;tbnw=137&amp;prev=/images%3Fq%3Dpeople%2Bhanging%2Bflags%2Bfrom%2Btheir%2Bhome%26start%3D20%26hl%3Den%26sa%3DN%26gbv%3D2%26ndsp%3D20%26tbs%3Disch:1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google.co.uk/imgres?imgurl=http://www.countryliving.com/cm/countryliving/images/CLX0706HOM001-de.jpg&amp;imgrefurl=http://www.countryliving.com/homes/makeovers/beach-house-makeover-0706&amp;usg=__3s068icV_rCCNIGgzdwMXBlzLhY=&amp;h=460&amp;w=360&amp;sz=63&amp;hl=en&amp;start=4&amp;zoom=1&amp;itbs=1&amp;tbnid=fPpMt_uRfye1-M:&amp;tbnh=128&amp;tbnw=100&amp;prev=/images%3Fq%3DAmerican%2Bflag%2Bhouse%26hl%3Den%26gbv%3D2%26tbs%3Disch:1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google.co.uk/imgres?imgurl=http://c.complex.com/blogs/wp-content/uploads/2008/09/abdul-pic.jpg&amp;imgrefurl=http://www.complex.com/blogs/2008/09/18/how-to-diss-the-national-anthem/&amp;usg=__XOebbXF1fMGFquFUGbC8bzSruoQ=&amp;h=299&amp;w=480&amp;sz=38&amp;hl=en&amp;start=7&amp;zoom=1&amp;itbs=1&amp;tbnid=gf4qYjp7P0ivrM:&amp;tbnh=80&amp;tbnw=129&amp;prev=/images%3Fq%3Dstand%2Bfor%2Bthe%2Bnational%2Banthem%26hl%3Den%26gbv%3D2%26tbs%3Disch:1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www.google.co.uk/imgres?imgurl=http://news.bbcimg.co.uk/media/images/48061000/jpg/_48061975__799804_twoflags150-1.jpg&amp;imgrefurl=http://www.bbc.co.uk/news/10302040&amp;usg=__JFSLia6IbfD5FUVbbUi9i0Ecqpc=&amp;h=300&amp;w=220&amp;sz=13&amp;hl=en&amp;start=37&amp;zoom=1&amp;itbs=1&amp;tbnid=QO-q0r-laRQ9jM:&amp;tbnh=116&amp;tbnw=85&amp;prev=/images%3Fq%3Dnorthern%2Bireland%2Bflags%2Bon%2Bhouses%26start%3D20%26hl%3Den%26sa%3DN%26gbv%3D2%26ndsp%3D20%26tbs%3Disch:1" TargetMode="Externa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Marxism and the Media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692360" y="2924280"/>
            <a:ext cx="54100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Level Media Stud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0" y="3789360"/>
            <a:ext cx="25081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692360" y="2637000"/>
            <a:ext cx="561636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eryday behaviours that keep corporations in powe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People wearing designer cl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People shopping at chains instead of local s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chools serving fast food in cafete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Women displaying huge diamond engagement r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People celebrating days that have been manufactured by Hallmark, like Grandparent's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476280"/>
            <a:ext cx="2219040" cy="1746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692280"/>
            <a:ext cx="2303280" cy="1143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20000" y="5157720"/>
            <a:ext cx="1886040" cy="1474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930920"/>
            <a:ext cx="140328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63200" y="2560680"/>
            <a:ext cx="761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eryday behaviours that keep patriarchy in powe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Women taking their husbands' last n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Fathers "giving away" their daughters during wedding ceremon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The use of words such as "man" as gender neut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76720" y="4437000"/>
            <a:ext cx="23526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homsky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rgues that popular culture can be used to divert people’s attention from real issues such as their conditions of employment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t is only the intellectual and educated classes in society, largely the professional classes, who must be persuaded to agree with the ideological values of the ruling elit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440480" y="0"/>
            <a:ext cx="17035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homsky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rgues that the media manipulates populations to prevent them rebelling against the powerful or dominant classe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s is done through ‘manufacturing consent’ – by filtering available information through the media and therefore controlling the audience’s ideas and thought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440480" y="0"/>
            <a:ext cx="17035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Lifestyle Televisio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696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can be argued that these programmes involve the retraining of members of the lower or lower middle class into the values, ideals and tastes of the bourgeois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of the experts on these programmes (Nigella Lawson, Trinny and Susannah) are clearly defined by accent, background and demeanour as members of the upper middle c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cRobbie argued that the denouncement of taste and behaviour of participants that is often central to these programmes, is a form of symbolic viol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early episodes of ‘What Not to Wear’, Trinny and Susannah destroyed participants clothes by tearing them 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also humiliated participants by criticising their clothing style in front of family and fri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icipants were often reduced to tea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1880" y="0"/>
            <a:ext cx="25621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retty Woma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rxist might see the film in terms of what it tells us about class and money in modern Amer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It's all about the money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nly way for Vivian to escape from her life of prostitution is to be rescued by a man with enough money to fulfil her dream of being the princess at the top of the tow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vian is only offered two choices - to either carry on as a prostitute or to become Edward’s lover and in effect, a capitalist hersel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ituation within the film illustrates a typical Marxist's comment on the world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italism limits peoples choices, forcing them into situations where they must either do a job that they do not want to do, or force other people into things they don't want to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8720" y="0"/>
            <a:ext cx="183528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riticisms of Marxism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t assumes the audience is passive and easily manipulated by media producer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 close examination of many media texts suggests the texts are POLYSEMIC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ather than having one clear message that supports dominant values and ideology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xt meanings are contradictory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***Key Terms***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1915920"/>
            <a:ext cx="3771720" cy="40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pit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de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hasises the importance for people in a society to be free to create wealth by setting up and running their own busine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mu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elief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s that capitalism exploits the labour of the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gues that the state should own and control wealth creation and distribute it fairly among the population as a who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476360" y="4724280"/>
            <a:ext cx="1854360" cy="1917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56360" y="189000"/>
            <a:ext cx="1722240" cy="12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Marxism…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ed on the writings of a 19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entury philosopher – KARL MARX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s writings were a response to the extremes of poverty and exploitation he witnessed in the years after the British Industrial Revolu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 argued that there were divisions and tensions between two clas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LETARIAT – workers who have to sell their labour to survi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BOURGEOISIE – own a range of different types of capital (wealth, factories, shares or property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32720" y="0"/>
            <a:ext cx="15112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he Communist Manifesto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orkers of all lands unite, you have nothing to lose but your chains.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708360" y="3357720"/>
            <a:ext cx="16797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Marxism…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ntemporary society, people following a Marxist world view sugges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the BOURGEOISIE includes a middle class who (although they do not own capital) identify and serve the interests of those who 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capitalism, the bourgeoisie dominates and exploits the proletariat in pursuit of prof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xists are concerned with how and why the mass of the population accept a system they see as unfair and exploit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Marxism in media…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rx’s ideas have been applied to media in contemporary society to suggest that the view of the world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constructed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in most mainstream media contributes to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persuading the proletariat to accept capitalism as natural and inevitabl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, whilst simultaneously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distracting them from complaining about exploitation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24360" y="2492280"/>
            <a:ext cx="1353960" cy="1728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24360" y="4437000"/>
            <a:ext cx="143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tonio GRAMS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2000" y="213372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roduced and used the concept of HEGEM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51640" y="4076640"/>
            <a:ext cx="32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pular culture contributes to the manufacturing of consent for bourgeoisie power within capitalist socie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4653000"/>
            <a:ext cx="266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gemony can also be applied to the power relations found in gender, sexuality and r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335772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w people are influenced into accepting the dominance of a power e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844640"/>
            <a:ext cx="3024000" cy="14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elite is able to rule because the rest of the population allow it to do 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56000" y="620640"/>
            <a:ext cx="48243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deological role of the media is to persuade us that it is in our best interest to accept the dominance of this el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572000" y="155700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292720" y="2708280"/>
            <a:ext cx="7192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3789360"/>
            <a:ext cx="1008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347640" y="414972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347640" y="2420640"/>
            <a:ext cx="576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347640" y="3573360"/>
            <a:ext cx="576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Hegemony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We all live in societies where there are power structures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ccording to Gramsci's theory of hegemony, these systems of power cannot be maintained by force alone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People have to do things, willingly and happily, in their everyday lives that keep the powerful people on top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63640" y="2421000"/>
            <a:ext cx="5545080" cy="27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very day behaviours that keep governments in powe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People hanging flags from their h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 People rising and removing their hats when the national anthem is s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 People celebrating a country's independence day with parades and pic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77080" y="620640"/>
            <a:ext cx="1808280" cy="1359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4149720"/>
            <a:ext cx="1770120" cy="22654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9640" y="620640"/>
            <a:ext cx="2094120" cy="1298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4000" y="4508640"/>
            <a:ext cx="145728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3:55:59Z</dcterms:created>
  <dc:creator>gbrolly940</dc:creator>
  <dc:description/>
  <dc:language>en-US</dc:language>
  <cp:lastModifiedBy>gbrolly940</cp:lastModifiedBy>
  <dcterms:modified xsi:type="dcterms:W3CDTF">2010-10-12T13:59:52Z</dcterms:modified>
  <cp:revision>18</cp:revision>
  <dc:subject/>
  <dc:title>Marxism and the Media</dc:title>
</cp:coreProperties>
</file>